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65C-4195-4720-86B8-E1FEB4C5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48000" y="3964320"/>
            <a:ext cx="533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6F1-913D-43E1-9695-20363A22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48000" y="396432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84000" y="396432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5E9-261C-436C-9A8B-2C45073B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3400" y="160020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58800" y="160020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48000" y="396432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3400" y="396432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58800" y="396432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928-B965-4D33-800A-D757E210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732-5DF6-4D77-825C-0D0B3A3C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6BC-0228-445C-8021-9240DF68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62A-ECD4-4CD1-9767-CD7EEF05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603-02C3-427E-9DF4-C1FA3D58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48000" y="274320"/>
            <a:ext cx="533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27A-65CE-4052-B1BB-28AFFDEC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48000" y="396432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719-DB45-4325-9825-52A2EE1E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84000" y="396432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F9C-ED37-43DA-811F-480CBA67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48000" y="3964320"/>
            <a:ext cx="533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30D-79DD-43B9-91D1-33ECEAD3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CFD2-6C58-4882-B086-4F19A4783D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0" y="1125360"/>
            <a:ext cx="4533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ving On Another Pla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4000" y="4076280"/>
            <a:ext cx="496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ny Ry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r Challe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ave been chosen to take part in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uman voyages to other pla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planets will be visited, although you will only be able to travel to one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Deta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our plane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you leave, you and your team must develop some answers to two important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Tas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48000" y="134136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ther than food and clothing, you are only allowed to take five objects with you. Given the conditions on your planet, what will they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You must design a Life Capsule that will keep you alive on your planet for one we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48000" y="404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o Work As A T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35280" y="2060640"/>
            <a:ext cx="505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gin, you must prove yourself to be worthy of going to another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be able to listen deeply to everything that is said by other team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ready: You’re about to take part in a Listening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specia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will be using an Expert Jigsaw to solve our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Home Teams, each person is to choose a different pl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now will move into Expert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2-16T02:30:06Z</dcterms:modified>
  <cp:revision>8</cp:revision>
  <dc:subject/>
  <dc:title>PowerPoint Presentation</dc:title>
</cp:coreProperties>
</file>